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739-29F8-46CB-918A-7AC9DD87E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174-4A09-4F23-8F15-1C4B4E106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6BD-6F25-4833-B3D5-7A9BD0B6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DB8-5FF4-437E-9AEA-E797730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765-938C-4BF6-9C20-568CE509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58-26EF-4DC2-BA1B-F1FF462C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4F9D-449E-482E-8BA1-45835057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2233-7048-4902-86BD-798712C8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000-37E9-4FAF-B6AA-90456E2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505A-9C06-4C01-A9FD-5F96106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D765-3B89-4551-B023-3FE2EC2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0BB-CA1E-41EF-8F9E-0A1AA1C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C4B-DE64-44E9-B03A-AC86161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E75-FCD2-400D-9140-365923CC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ADA-303D-48D1-A674-2D15218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163E-1791-49CD-AC35-4A1BEAF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0CB-D2A7-4DD8-98A9-9B58BCE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1019-4DAC-4F5F-8FFA-9B2470FA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3EED-E780-4B20-84AD-73DF32FB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78CC-2EA4-4555-8231-CD3AC809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FC38-9C00-46CA-833C-73E9EC0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EB24-16DC-4D0E-A901-887A969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6CC1-2C91-49E7-8C3E-3286498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060E-C42A-4ACC-A5F6-56056B2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982-787B-40EB-8AA8-31347EB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A36F-DE31-4D3E-A93C-C1909F89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8107-3C3F-4EB3-BDC7-0B98547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AD5A-18DE-4116-A570-42E3C31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8670-ABAA-4169-AFDB-A0C6C54E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5068-F3BD-44C5-A987-0CEE651A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86C7-B407-4D06-9F03-5A8ABD2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6A67-E191-4768-A826-E75B1E7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0653-26F9-43B7-8248-CFEF7C68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776F-9DEA-447F-A8A4-D171117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5B4B-1639-468A-89BF-819D0A16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CC7-B2C4-4E8E-8CD0-0CB4EDB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DFB1-8A62-485A-AAF5-4B3F923A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DA36-32DA-483A-B164-D3A9216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BECA-90D5-47FB-84B7-B31A828D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2D34-E6F1-4BF0-9507-3E1D6B1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CEA8-0CF3-4D23-B475-B599711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9500-7925-49C8-84F3-A57FBC4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FCBA-FF96-4D07-92FD-95A9B5B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81CD-0A2E-4632-8A02-776B448E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E44D-062C-4CCB-AADD-5D4E4676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CE41C-B4A1-49F0-B537-EBE449E2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91D-C6C4-42C7-8B02-AA16ED4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345E0-204B-42C5-83ED-BCE566E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103F6-1881-4C5C-ACC0-2C48287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73961-2682-42FA-B0CC-AC7C41B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68344-55F7-4550-94E5-11D6AFC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EC060-F13F-4080-931F-A05857E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84D09-EC57-4353-98EC-1084101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087D4-AB5C-4CEB-9CF1-8B91CCF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47A17-115B-4554-8382-7C657A4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D3256-D990-412C-86C2-685A19D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D1A09-79A6-4834-9F4F-8DB5CF4F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595-7111-469E-9466-1E6AC185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DAA29-B219-4BD2-8E23-1D608B46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6CE-24B7-4A9B-B22F-B06BCC7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750-9F71-4C8E-87C5-312A640E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D76-D2BF-4614-A280-C7DC9B4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238-E29C-4020-A445-EF97E3326B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802A-EF0A-4817-94EF-3483C8776A8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84C-B02F-45EB-93CC-07428B084B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64B-1150-4846-B7AA-CCE22817C8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0A7C-6C87-4A8B-973F-57CF66EB95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Times New Roman"/>
              </a:rPr>
              <a:t>14. Имуногенетика крвних група</a:t>
            </a:r>
            <a:endParaRPr b="0" lang="en-US" sz="4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04920" y="609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Вежба 1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Генетика крвних груп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ff0000"/>
                </a:solidFill>
                <a:latin typeface="Times New Roman"/>
              </a:rPr>
              <a:t>Мултипни алелизам</a:t>
            </a:r>
            <a:r>
              <a:rPr b="0" lang="sr-C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Један ген заступљен са више од два различита алелна обли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Хијерархијски однос доминант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 за боју длаке код кунића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4 различита алел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Кодоминантан одн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н за АБО систем крвних група код људи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Хијерархијски однос доминантности </a:t>
            </a: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Ген за боју длаке: </a:t>
            </a:r>
            <a:r>
              <a:rPr b="1" lang="en-GB" sz="2200" spc="-1" strike="noStrike">
                <a:solidFill>
                  <a:srgbClr val="04617b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 &gt; </a:t>
            </a:r>
            <a:r>
              <a:rPr b="1" lang="en-GB" sz="2200" spc="-1" strike="noStrike">
                <a:solidFill>
                  <a:srgbClr val="04617b"/>
                </a:solidFill>
                <a:latin typeface="Times New Roman"/>
              </a:rPr>
              <a:t>c</a:t>
            </a:r>
            <a:r>
              <a:rPr b="1" lang="en-GB" sz="2200" spc="-1" strike="noStrike" baseline="30000">
                <a:solidFill>
                  <a:srgbClr val="04617b"/>
                </a:solidFill>
                <a:latin typeface="Times New Roman"/>
              </a:rPr>
              <a:t>ch</a:t>
            </a:r>
            <a:r>
              <a:rPr b="1" lang="en-GB" sz="22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&gt; </a:t>
            </a:r>
            <a:r>
              <a:rPr b="1" lang="en-GB" sz="2200" spc="-1" strike="noStrike">
                <a:solidFill>
                  <a:srgbClr val="04617b"/>
                </a:solidFill>
                <a:latin typeface="Times New Roman"/>
              </a:rPr>
              <a:t>c</a:t>
            </a:r>
            <a:r>
              <a:rPr b="1" lang="en-GB" sz="2200" spc="-1" strike="noStrike" baseline="30000">
                <a:solidFill>
                  <a:srgbClr val="04617b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 &gt; </a:t>
            </a:r>
            <a:r>
              <a:rPr b="1" lang="en-GB" sz="2200" spc="-1" strike="noStrike">
                <a:solidFill>
                  <a:srgbClr val="04617b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  (4 различита алела)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8229600" cy="4718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фенотип 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енотип (10)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тпунa 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еност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зн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;  C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a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ло-сива бо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химaлaјскa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c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 </a:t>
            </a: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систем крвних група</a:t>
            </a:r>
            <a:br>
              <a:rPr sz="5000"/>
            </a:b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(А, В, АВ и О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Детерминише ген на</a:t>
            </a:r>
            <a:r>
              <a:rPr b="0" lang="sr-CS" sz="2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7030a0"/>
                </a:solidFill>
                <a:latin typeface="Times New Roman"/>
              </a:rPr>
              <a:t>хромозому 9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7030a0"/>
                </a:solidFill>
                <a:latin typeface="Times New Roman"/>
              </a:rPr>
              <a:t>има три алела</a:t>
            </a:r>
            <a:r>
              <a:rPr b="0" lang="sr-Latn-CS" sz="2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ff"/>
                </a:solidFill>
                <a:latin typeface="Times New Roman"/>
              </a:rPr>
              <a:t>I</a:t>
            </a:r>
            <a:r>
              <a:rPr b="0" lang="sr-Latn-CS" sz="2600" spc="-1" strike="noStrike" baseline="30000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sr-Latn-CS" sz="26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00ff"/>
                </a:solidFill>
                <a:latin typeface="Times New Roman"/>
              </a:rPr>
              <a:t>I</a:t>
            </a:r>
            <a:r>
              <a:rPr b="0" lang="sr-Latn-CS" sz="2600" spc="-1" strike="noStrike" baseline="30000">
                <a:solidFill>
                  <a:srgbClr val="ff00ff"/>
                </a:solidFill>
                <a:latin typeface="Times New Roman"/>
              </a:rPr>
              <a:t>B</a:t>
            </a:r>
            <a:r>
              <a:rPr b="0" lang="sr-Latn-CS" sz="26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00ff"/>
                </a:solidFill>
                <a:latin typeface="Times New Roman"/>
              </a:rPr>
              <a:t>I</a:t>
            </a:r>
            <a:r>
              <a:rPr b="0" lang="sr-Latn-CS" sz="2600" spc="-1" strike="noStrike" baseline="30000">
                <a:solidFill>
                  <a:srgbClr val="ff00ff"/>
                </a:solidFill>
                <a:latin typeface="Times New Roman"/>
              </a:rPr>
              <a:t>O</a:t>
            </a:r>
            <a:r>
              <a:rPr b="0" lang="sr-Latn-CS" sz="2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Кодоминантан однос А и В алела</a:t>
            </a:r>
            <a:br>
              <a:rPr sz="3200"/>
            </a:b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5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1" lang="en-GB" sz="25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) &gt; I</a:t>
            </a:r>
            <a:r>
              <a:rPr b="1" lang="en-GB" sz="25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6000" y="1574640"/>
          <a:ext cx="8686800" cy="5054760"/>
        </p:xfrm>
        <a:graphic>
          <a:graphicData uri="http://schemas.openxmlformats.org/drawingml/2006/table">
            <a:tbl>
              <a:tblPr/>
              <a:tblGrid>
                <a:gridCol w="1768320"/>
                <a:gridCol w="2803680"/>
                <a:gridCol w="2041560"/>
                <a:gridCol w="207324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о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g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B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sr-Latn-CS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етер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B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, aнт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O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, aнтитело 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00"/>
                </a:solidFill>
                <a:latin typeface="Times New Roman"/>
              </a:rPr>
              <a:t>Rh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</a:rPr>
              <a:t>Детерминише ген на </a:t>
            </a:r>
            <a:r>
              <a:rPr b="0" lang="sr-CS" sz="3600" spc="-1" strike="noStrike">
                <a:solidFill>
                  <a:srgbClr val="7030a0"/>
                </a:solidFill>
                <a:latin typeface="Times New Roman"/>
              </a:rPr>
              <a:t>хромозому 1</a:t>
            </a:r>
            <a:r>
              <a:rPr b="0" lang="sr-C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002060"/>
                </a:solidFill>
                <a:latin typeface="Times New Roman"/>
              </a:rPr>
              <a:t>(D </a:t>
            </a:r>
            <a:r>
              <a:rPr b="0" lang="sr-CS" sz="3600" spc="-1" strike="noStrike">
                <a:solidFill>
                  <a:srgbClr val="002060"/>
                </a:solidFill>
                <a:latin typeface="Times New Roman"/>
              </a:rPr>
              <a:t>ген</a:t>
            </a:r>
            <a:r>
              <a:rPr b="0" lang="sr-Latn-CS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DD, Dd;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d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Times New Roman"/>
              </a:rPr>
              <a:t>Планирање породиц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d  x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1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d, Dd, dd,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d x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1 Dd, Dd, Dd,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%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d x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1 DD, Dd, Dd, d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3" descr="Rh"/>
          <p:cNvPicPr/>
          <p:nvPr/>
        </p:nvPicPr>
        <p:blipFill>
          <a:blip r:embed="rId1"/>
          <a:stretch/>
        </p:blipFill>
        <p:spPr>
          <a:xfrm>
            <a:off x="-135000" y="217440"/>
            <a:ext cx="92790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0" lang="sr-CS" sz="50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Ген који детерминише овај систем налази се на </a:t>
            </a:r>
            <a:r>
              <a:rPr b="0" lang="sr-CS" sz="2800" spc="-1" strike="noStrike">
                <a:solidFill>
                  <a:srgbClr val="7030a0"/>
                </a:solidFill>
                <a:latin typeface="Times New Roman"/>
              </a:rPr>
              <a:t>хромозому бр.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M</a:t>
            </a:r>
            <a:r>
              <a:rPr b="1" lang="sr-CS" sz="2800" spc="-1" strike="noStrike">
                <a:solidFill>
                  <a:srgbClr val="7030a0"/>
                </a:solidFill>
                <a:latin typeface="Times New Roman"/>
              </a:rPr>
              <a:t> крвна група 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</a:rPr>
              <a:t>–</a:t>
            </a:r>
            <a:r>
              <a:rPr b="0" lang="sr-CS" sz="2800" spc="-1" strike="noStrike">
                <a:solidFill>
                  <a:srgbClr val="04617b"/>
                </a:solidFill>
                <a:latin typeface="Times New Roman"/>
              </a:rPr>
              <a:t> генотип: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MN</a:t>
            </a:r>
            <a:r>
              <a:rPr b="1" lang="sr-CS" sz="2800" spc="-1" strike="noStrike">
                <a:solidFill>
                  <a:srgbClr val="7030a0"/>
                </a:solidFill>
                <a:latin typeface="Times New Roman"/>
              </a:rPr>
              <a:t> крвна група 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</a:rPr>
              <a:t>–</a:t>
            </a:r>
            <a:r>
              <a:rPr b="0" lang="sr-CS" sz="2800" spc="-1" strike="noStrike">
                <a:solidFill>
                  <a:srgbClr val="04617b"/>
                </a:solidFill>
                <a:latin typeface="Times New Roman"/>
              </a:rPr>
              <a:t> генотип: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N</a:t>
            </a:r>
            <a:r>
              <a:rPr b="1" lang="sr-CS" sz="2800" spc="-1" strike="noStrike">
                <a:solidFill>
                  <a:srgbClr val="7030a0"/>
                </a:solidFill>
                <a:latin typeface="Times New Roman"/>
              </a:rPr>
              <a:t> крвна група 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</a:rPr>
              <a:t>–</a:t>
            </a:r>
            <a:r>
              <a:rPr b="0" lang="sr-CS" sz="2800" spc="-1" strike="noStrike">
                <a:solidFill>
                  <a:srgbClr val="04617b"/>
                </a:solidFill>
                <a:latin typeface="Times New Roman"/>
              </a:rPr>
              <a:t> генотип: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N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ИЗРАДА ПРОБЛЕМСКИХ ЗАДАТА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3716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41148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7920000" cy="352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ксперимент је изве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р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анш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н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1901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BO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</a:rPr>
              <a:t>систем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(A, B, AB, O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терминише ген на </a:t>
            </a:r>
            <a:r>
              <a:rPr b="0" lang="sr-CS" sz="2800" spc="-1" strike="noStrike" u="sng">
                <a:solidFill>
                  <a:srgbClr val="0070c0"/>
                </a:solidFill>
                <a:uFillTx/>
                <a:latin typeface="Times New Roman"/>
              </a:rPr>
              <a:t>хромозому 9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ој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а три ал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542880" y="47628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Један ген заступљен са више од два различита алелна облика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Кодоминантан однос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Ген з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 систем крвних група код људ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Хијерархијски однос доминантности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ен за боју длаке код кунића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4 различита алела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228600" y="1447920"/>
          <a:ext cx="8686800" cy="5054400"/>
        </p:xfrm>
        <a:graphic>
          <a:graphicData uri="http://schemas.openxmlformats.org/drawingml/2006/table">
            <a:tbl>
              <a:tblPr/>
              <a:tblGrid>
                <a:gridCol w="1768320"/>
                <a:gridCol w="2803680"/>
                <a:gridCol w="2041560"/>
                <a:gridCol w="20732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, 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O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, aнтитело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889488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152280" y="1676520"/>
          <a:ext cx="8507520" cy="4525920"/>
        </p:xfrm>
        <a:graphic>
          <a:graphicData uri="http://schemas.openxmlformats.org/drawingml/2006/table">
            <a:tbl>
              <a:tblPr/>
              <a:tblGrid>
                <a:gridCol w="439272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 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 (10)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тпунa о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еност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зн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;  C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a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ло-сива бој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химaлaјскa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л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Детерминише ген на хромозому 1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(D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sr-Latn-C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  DD, Dd;   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dd</a:t>
            </a:r>
            <a:r>
              <a:rPr b="0" lang="sr-Latn-C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d  x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1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d, Dd, dd,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05520" y="1935000"/>
            <a:ext cx="403848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Oval 2"/>
          <p:cNvSpPr/>
          <p:nvPr/>
        </p:nvSpPr>
        <p:spPr>
          <a:xfrm>
            <a:off x="1447920" y="1676520"/>
            <a:ext cx="3429000" cy="210348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5084640" y="1676520"/>
            <a:ext cx="3429000" cy="210348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1447920" y="4343400"/>
            <a:ext cx="3429000" cy="213372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78" name="Picture 3" descr="Rh"/>
          <p:cNvPicPr/>
          <p:nvPr/>
        </p:nvPicPr>
        <p:blipFill>
          <a:blip r:embed="rId1"/>
          <a:stretch/>
        </p:blipFill>
        <p:spPr>
          <a:xfrm>
            <a:off x="-135000" y="217440"/>
            <a:ext cx="92790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536400" y="46368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0" y="30481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ени који детерминишу ова два система налазе се н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ом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бр.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иси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S-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SS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s-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-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58:36Z</dcterms:created>
  <dc:creator>Corporate Edition</dc:creator>
  <dc:description/>
  <dc:language>en-US</dc:language>
  <cp:lastModifiedBy>Ryzen</cp:lastModifiedBy>
  <dcterms:modified xsi:type="dcterms:W3CDTF">2022-01-18T12:03:45Z</dcterms:modified>
  <cp:revision>11</cp:revision>
  <dc:subject/>
  <dc:title>14. Имуногенетика крвних група</dc:title>
</cp:coreProperties>
</file>